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C94-5A22-4EBD-B909-8503FEF0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C3C-F6F0-477A-A35D-A2099EDC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D0B-04FC-49ED-9CD1-7737C01A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456-4F76-4199-828C-BE2B9CF8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EE7-DCFA-4029-B46C-2D30BF19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E79-F7D5-497A-97AB-77692AD6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3E4-DE1B-4EF6-AF5A-8151EF7E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51B-AADC-4A4D-96FC-E91A0D34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BF6-894C-4A46-8EE7-A9B4D6B9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CCF-07D1-4697-8AE4-78AE6EBB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B35-E81D-4ED4-A346-681B46DF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7D6-3317-4DE7-92B9-C287DBA5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1B5C-B523-44DD-80BD-270E39F4D1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eet.thefuntimesguide.com/images/blogs/big-feet-by-Pixel-Addict.jpg&amp;imgrefurl=http://feet.thefuntimesguide.com/2009/06/big_feet_shoes.php&amp;usg=__YHME9TvfXfMTPN7FEV20vzzLilc=&amp;h=1024&amp;w=683&amp;sz=225&amp;hl=en&amp;start=29&amp;itbs=1&amp;tbnid=bV_rCjS-FbOmWM:&amp;tbnh=150&amp;tbnw=100&amp;prev=/images%3Fq%3Dmen%2527s%2Bfeet%26start%3D18%26hl%3Den%26safe%3Dactive%26sa%3DN%26gbv%3D2%26ndsp%3D18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csc.myweb.usf.edu/aprilfool08/Beauty%2520and%2520Fashion%2520Blog_files/beautiful_feet.jpg&amp;imgrefurl=http://wcsc.myweb.usf.edu/aprilfool08/&amp;usg=__ZZncFASQ0jYtW1PsKYrnjN72MbI=&amp;h=292&amp;w=400&amp;sz=38&amp;hl=en&amp;start=8&amp;itbs=1&amp;tbnid=JVkbrdVkdGue-M:&amp;tbnh=91&amp;tbnw=124&amp;prev=/images%3Fq%3Dfeet%26hl%3Den%26safe%3Dactive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eet, feet and more feet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1747800" cy="2620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152280"/>
            <a:ext cx="190188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943600" y="3505320"/>
            <a:ext cx="2789280" cy="30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609480" y="3886200"/>
            <a:ext cx="28958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ffect does gender have on guessing a boy from a girl from looking at the people’s fee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86688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95280" y="152280"/>
            <a:ext cx="97164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ink that if you paint your nails you will not be able to tell the differ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886120" cy="3790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91120" y="3124080"/>
            <a:ext cx="4114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ra ,Kandra, Cody, Rachel, Janyssa, Dylan, and Gu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2438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picture of the testers feet and then see if gender has an affect on the outco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3581280"/>
            <a:ext cx="51055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ndra- 7 male – 29 fe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lan- 18 male – 18 fe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yssa- 25 male – 13 fe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s- 23 male – 13 fe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hel- 17 male – 18 fe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y- 15 male -  18 fe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4867200"/>
            <a:ext cx="2514600" cy="1990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ound that it doesn’t really have an affect. There was a lot of just random guessing. I  would say though that females were just a little better but there wasn’t much of a differ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9:48:25Z</dcterms:created>
  <dc:creator>USD376</dc:creator>
  <dc:description/>
  <dc:language>en-US</dc:language>
  <cp:lastModifiedBy>USD376</cp:lastModifiedBy>
  <dcterms:modified xsi:type="dcterms:W3CDTF">2010-04-30T13:39:47Z</dcterms:modified>
  <cp:revision>6</cp:revision>
  <dc:subject/>
  <dc:title>Title</dc:title>
</cp:coreProperties>
</file>